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42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50.png" ContentType="image/pn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489B-9CF3-47A8-8510-878B2CA793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c0100"/>
                </a:solidFill>
                <a:latin typeface="Arial"/>
              </a:rPr>
              <a:t>雷锋一个耳熟能详，家喻户晓的名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c0100"/>
                </a:solidFill>
                <a:latin typeface="Arial"/>
              </a:rPr>
              <a:t>      </a:t>
            </a:r>
            <a:r>
              <a:rPr b="1" lang="zh-CN" sz="1200" spc="-1" strike="noStrike">
                <a:solidFill>
                  <a:srgbClr val="0c0100"/>
                </a:solidFill>
                <a:latin typeface="Arial"/>
              </a:rPr>
              <a:t>雷锋对我们在座的每位同学都不陌生</a:t>
            </a:r>
            <a:r>
              <a:rPr b="1" lang="zh-CN" sz="1200" spc="-1" strike="noStrike">
                <a:solidFill>
                  <a:srgbClr val="0c0100"/>
                </a:solidFill>
                <a:latin typeface="Arial"/>
              </a:rPr>
              <a:t>,</a:t>
            </a:r>
            <a:r>
              <a:rPr b="1" lang="zh-CN" sz="1200" spc="-1" strike="noStrike">
                <a:solidFill>
                  <a:srgbClr val="0c0100"/>
                </a:solidFill>
                <a:latin typeface="Arial"/>
              </a:rPr>
              <a:t>首先想请同学们谈一谈你所知道的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雷锋和你对雷锋精神</a:t>
            </a:r>
            <a:r>
              <a:rPr b="1" lang="zh-CN" sz="1200" spc="-1" strike="noStrike">
                <a:solidFill>
                  <a:srgbClr val="0c0100"/>
                </a:solidFill>
                <a:latin typeface="Arial"/>
              </a:rPr>
              <a:t>的理解</a:t>
            </a:r>
            <a:r>
              <a:rPr b="1" lang="zh-CN" sz="1200" spc="-1" strike="noStrike">
                <a:solidFill>
                  <a:srgbClr val="0c01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984E-466F-419D-B3ED-332156A0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33A-062F-4CF2-B7FE-75A0755B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079-D200-4F18-88F7-06838BC0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C55-6F07-48B1-9C5A-07936317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A431-DEEA-4299-92D1-18350FF4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A96B-66EA-4407-A80C-90B141F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0722-5AFB-4859-A420-41B38BA2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A7D2-DF67-42FC-A402-93444166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3AAA-851B-4F66-B0BC-8EE05B62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5212-12C5-4D56-B2C8-5EA42681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370A-320C-4F22-B2B0-41E8DE23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9F9-B988-4234-BE01-0C49843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0E07-3223-4DD9-8B14-25E97FE7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656E-752F-444E-85DA-E4DB5F6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53F8-3742-4B5E-B139-54ABE8B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6A0E-A9EA-48BC-A219-9149F6D0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2D0E-70B1-4C91-992B-64B188CF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17C-8C35-4FD1-9652-F068789A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2E9-64C6-4E6B-A28B-AA54F396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8CA-0FF8-496B-9969-7461ABB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477-2B0E-4C60-8C0B-65068B5A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A25-76B9-49B0-89E4-5E9E5FA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3B9-FE97-4D3D-9B8A-7F75AD26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6F4-F587-4FAA-9EF1-6C13147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98CB-18AB-4BCC-AE68-603C1617F8CE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C65A-C58C-4663-A1D8-ADE354A83653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0&amp;tn=baiduimagedetail&amp;word=%C0&#1527;%E6&amp;in=106&amp;cl=2&amp;cm=1&amp;sc=0&amp;lm=-1&amp;pn=105&amp;rn=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0&amp;tn=baiduimagedetail&amp;word=%C0&#1527;%E6&amp;in=119&amp;cl=2&amp;cm=1&amp;sc=0&amp;lm=-1&amp;pn=118&amp;r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avel.eastday.com/jd_22695.html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order.com.cn/sight/site/8821.html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6d6d.cn/detail.php?id=4934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ravelguide.sunnychina.com/travelguide_image_11100_18035_1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xer.net/Article/bfsh/200612/20061222105209_10.html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sina.com.cn/o/2004-12-16/11214541024s.shtml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log.139.com/wind_online/photo/midlist.html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C3%C0%BA%C3%C8&#764;%E4&amp;in=1&amp;cl=2&amp;cm=1&amp;sc=0&amp;lm=-1&amp;pn=0&amp;rn=1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tv.com/program/jjsn/topic/agriculture/C14880/02/" TargetMode="External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zwww.com/ly/lyzt/hsly/lstp/t20050127_953144.htm" TargetMode="External"/><Relationship Id="rId3" Type="http://schemas.openxmlformats.org/officeDocument/2006/relationships/image" Target="../media/image36.png"/><Relationship Id="rId4" Type="http://schemas.openxmlformats.org/officeDocument/2006/relationships/hyperlink" Target="http://home.dlmedu.edu.cn/zzrsb/dangjiangz/yingxiongrw/rw4.htm" TargetMode="Externa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ershan.cn/news/show.asp?url=NewsNews/c/2006-12-27/133211898694.shtml" TargetMode="External"/><Relationship Id="rId3" Type="http://schemas.openxmlformats.org/officeDocument/2006/relationships/image" Target="../media/image38.jpeg"/><Relationship Id="rId4" Type="http://schemas.openxmlformats.org/officeDocument/2006/relationships/hyperlink" Target="http://www.cnexy.org/default/news/2006/8/1863_1.html" TargetMode="External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B%F4&#1250;%B6%AB&amp;in=4&amp;cl=2&amp;cm=1&amp;sc=0&amp;lm=-1&amp;pn=3&amp;rn=1" TargetMode="External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log.tyfo.com/User/happy/2005-06/101616.html" TargetMode="External"/><Relationship Id="rId3" Type="http://schemas.openxmlformats.org/officeDocument/2006/relationships/image" Target="../media/image46.jpeg"/><Relationship Id="rId4" Type="http://schemas.openxmlformats.org/officeDocument/2006/relationships/hyperlink" Target="http://liaoning.nen.com.cn/77974066106990592/20060301/1859103.shtml" TargetMode="External"/><Relationship Id="rId5" Type="http://schemas.openxmlformats.org/officeDocument/2006/relationships/image" Target="../media/image47.jpeg"/><Relationship Id="rId6" Type="http://schemas.openxmlformats.org/officeDocument/2006/relationships/hyperlink" Target="http://home.jmu.edu.cn/cyh/paint/paint-b.htm" TargetMode="External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Administrator/&#26700;&#38754;/&#23398;&#20064;&#38647;&#38155;&#22909;&#27036;&#26679;.mp3" TargetMode="External"/><Relationship Id="rId3" Type="http://schemas.openxmlformats.org/officeDocument/2006/relationships/hyperlink" Target="file:///C:/Documents%20and%20Settings/Administrator/&#26700;&#38754;/&#23398;&#20064;&#38647;&#38155;&#22909;&#27036;&#26679;.mp3" TargetMode="External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雷锋是一位伟大的共产主义战士、全心全意为人民服务的楷模"/>
          <p:cNvPicPr/>
          <p:nvPr/>
        </p:nvPicPr>
        <p:blipFill>
          <a:blip r:embed="rId2"/>
          <a:stretch/>
        </p:blipFill>
        <p:spPr>
          <a:xfrm>
            <a:off x="5429160" y="2095560"/>
            <a:ext cx="3714840" cy="4762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512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cc"/>
                </a:solidFill>
                <a:latin typeface="Tahoma"/>
              </a:rPr>
              <a:t>做一个有用的人</a:t>
            </a:r>
            <a:br>
              <a:rPr sz="800"/>
            </a:br>
            <a:r>
              <a:rPr b="0" lang="zh-CN" sz="800" spc="-1" strike="noStrike">
                <a:solidFill>
                  <a:srgbClr val="ffffcc"/>
                </a:solidFill>
                <a:latin typeface="Tahoma"/>
              </a:rPr>
              <a:t>雷锋精神永远存</a:t>
            </a: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752480"/>
            <a:ext cx="5824800" cy="27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做一个有用的人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雷锋精神永远存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  <a:ea typeface="黑体"/>
              </a:rPr>
              <a:t>雷锋语录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　１０一个人的作用，对于革命事业来说，就如一架机器上的一颗螺丝钉。机器由于有许许多多的螺丝钉的联接和固定，才成了一个坚实的整体，才能够运转自如，发挥它巨大的工作能。螺丝钉虽小，其作用是不可估计的。我愿永远做一个螺丝钉。螺丝钉要经常保养和清洗，才不会生锈。人的思想也是这样，要经常检查，才不会出毛病。 我要不断地加强学习提高自己的思想觉悟，坚决听党和毛主席的话，经常开展批评与自我批评，随时清除思想上的毛病，在伟大的革命事业中做一个永不生锈的螺丝钉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  <a:ea typeface="黑体"/>
              </a:rPr>
              <a:t>雷锋语录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　１１如果你是一滴水，你是否滋润了一寸土地？如果你是一线阳光，你是否照亮了一分黑暗？如果你是一颗粮食，你是否哺育了有用的生命？如果你是一颗最小的螺丝钉，你是否永远守在你生活的岗位上？如果你要告诉我们什么思想，你是否在日夜宣扬那最美丽的理想？你既然活着，你又是否为了未来的人类生活付出你的劳动，使世界一天天变得更美丽？我想问你，为未来带来了什么？在生活的仓库里，我们不应该只是个无穷尽的支付者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二、雷锋精神的内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1: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奉献精神</a:t>
            </a: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9718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雷锋精神的核心是为人民服务。雷锋二字，已成为人们心目中热心公益、乐于助人、扶贫济困、见义勇为、善待他人、奉献社会的代名词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二、雷锋精神的内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858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:“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钉子”精神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971800"/>
            <a:ext cx="86868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1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有人说工作忙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没有时间学习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我认为问题不在于工作忙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而在于我们愿不愿意学习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会不会挤时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要学习的时间是有的，问题是我们善不善于挤、愿不愿意钻。一块好好的木板，上面一个眼也没有，但钉子为什么能钉进去呢？这就是靠压力硬挤进去的、硬钻进去的。由此看来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钉子有两个长处：一个是挤劲，一个是钻劲。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我们在学习上，也要提倡这种‘钉子’精神，善于挤和善于钻。”</a:t>
            </a:r>
            <a:r>
              <a:rPr b="0" lang="zh-CN" sz="3200" spc="-1" strike="noStrike">
                <a:solidFill>
                  <a:srgbClr val="0c01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371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锋对待工作总是干一行、爱一行、钻一行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立足本职，尽职尽责，努力以钉子的“挤”劲和“钻”劲，使自己成为工作的内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二、雷锋精神的内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002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3:“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螺丝钉”精神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9718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锋谦虚待人，甘于平凡，从点滴做起，从小事做起，服从革命的需要和组织的安排，党叫干啥就干啥。他把自己生命溶入党和人民事业的整体之中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立志在平凡中干出不平凡的业绩，乐于做一颗永不生锈的“螺丝钉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二、雷锋精神的内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7524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4: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艰苦奋斗精神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819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锋出身贫苦，在旧社会，哥哥、弟弟都因负伤、饥饿，病死了，他自己也走近了死亡的边缘，他深知生活的艰辛。因而，他工作和生活的一言一行都体现出中华民族勤俭节约、艰苦奋斗的传统美德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二、雷锋精神的内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0020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641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: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奉献精神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743200"/>
            <a:ext cx="42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:“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钉子”精神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809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3:“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螺丝钉”精神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4: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艰苦奋斗精神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有的人死了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他还活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岁是雷锋永远的年龄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但他永远活在祖国和人民的心中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１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96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毛主席亲笔题词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发出”向雷锋同志学习的号召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周恩来、邓小平、江泽民等党和国家领导人先后为其题词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２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国家把每年三月定为“雷锋月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３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长沙、抚顺、鞍山都建有雷锋纪念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接过雷锋的枪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雷锋是我们学习的好榜样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!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343400" y="2068560"/>
            <a:ext cx="3354480" cy="47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4472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3505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你所知道的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雷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和你对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</a:rPr>
              <a:t>雷锋精神的理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谈一谈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72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301840" y="0"/>
            <a:ext cx="4540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6320" y="156204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816280" y="0"/>
            <a:ext cx="3511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有的人死了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他还活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600200"/>
            <a:ext cx="69343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有的人死了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他还活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1447920"/>
            <a:ext cx="6419880" cy="5234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有的人死了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他还活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1401840"/>
            <a:ext cx="601992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有的人死了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他还活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1523880"/>
            <a:ext cx="6781680" cy="5205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雷锋小学</a:t>
            </a: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795840" y="2774880"/>
          <a:ext cx="1509480" cy="1308240"/>
        </p:xfrm>
        <a:graphic>
          <a:graphicData uri="http://schemas.openxmlformats.org/drawingml/2006/table">
            <a:tbl>
              <a:tblPr/>
              <a:tblGrid>
                <a:gridCol w="15094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62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 </a:t>
                      </a:r>
                      <a:r>
                        <a:rPr b="0" lang="zh-CN" sz="9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5800" y="1911240"/>
            <a:ext cx="617220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雷锋中学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95840" y="2774880"/>
          <a:ext cx="1509480" cy="1308240"/>
        </p:xfrm>
        <a:graphic>
          <a:graphicData uri="http://schemas.openxmlformats.org/drawingml/2006/table">
            <a:tbl>
              <a:tblPr/>
              <a:tblGrid>
                <a:gridCol w="15094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62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 </a:t>
                      </a:r>
                      <a:r>
                        <a:rPr b="0" lang="zh-CN" sz="9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1857240"/>
            <a:ext cx="693432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雷锋储蓄所</a:t>
            </a: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　雷锋储蓄所是伟大的共产主义战士雷锋生前经常存取款的地方，至今还保存着雷锋未曾支取的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00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元定期储蓄存款。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990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月被市委、市政府命名为雷锋储蓄所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年来，我们坚持用雷锋精神建所育人的方向，培养一流的员工队伍，创造一流的工作业绩， 树立一流的行业形象，先后被授予全国学雷锋先进集体、全国“青年文明号”和全国金融系统先进基层党组织等荣誉称号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c0100"/>
                </a:solidFill>
                <a:latin typeface="华文新魏"/>
                <a:ea typeface="华文新魏"/>
              </a:rPr>
              <a:t>一</a:t>
            </a:r>
            <a:r>
              <a:rPr b="0" lang="zh-CN" sz="5400" spc="-1" strike="noStrike">
                <a:solidFill>
                  <a:srgbClr val="0c0100"/>
                </a:solidFill>
                <a:latin typeface="华文新魏"/>
                <a:ea typeface="华文新魏"/>
              </a:rPr>
              <a:t>:</a:t>
            </a:r>
            <a:r>
              <a:rPr b="0" lang="zh-CN" sz="5400" spc="-1" strike="noStrike">
                <a:solidFill>
                  <a:srgbClr val="0c0100"/>
                </a:solidFill>
                <a:latin typeface="华文新魏"/>
                <a:ea typeface="华文新魏"/>
              </a:rPr>
              <a:t>雷锋生平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34160"/>
            <a:ext cx="9144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1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锋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湖南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望城县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94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出生于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穷苦农民家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岁沦为孤儿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，先后加入中国共产主义少年先锋队和青年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6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应征入伍，同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加入中国共产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96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5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，执行运输任务时不幸殉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63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毛主席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亲笔题词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发出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“向雷锋同志学习的号召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国家把每年三月定为 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“雷锋月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雷锋班”：国防部命名他生前所在班为“雷锋班”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雷锋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雷锋乡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  <a:ea typeface="华文新魏"/>
              </a:rPr>
              <a:t>三、雷锋精神过时了吗？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有人说现在国家提倡扩大内需、刺激消费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!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如果我们都还像雷锋那样省吃俭用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那国家经济怎么发展？如果每个人都把衣服补了再补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那产衣服的厂不是要关闭了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? 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因此许多人说雷锋精神过时了！请同学们谈谈雷锋精神过时了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  <a:ea typeface="华文新魏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>
            <a:hlinkClick r:id="rId2"/>
          </p:cNvPr>
          <p:cNvPicPr/>
          <p:nvPr/>
        </p:nvPicPr>
        <p:blipFill>
          <a:blip r:embed="rId3"/>
          <a:srcRect l="14167" t="15556" r="18337" b="13333"/>
          <a:stretch/>
        </p:blipFill>
        <p:spPr>
          <a:xfrm>
            <a:off x="1066680" y="415800"/>
            <a:ext cx="6782040" cy="6442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  <a:ea typeface="华文新魏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>
            <a:hlinkClick r:id="rId2"/>
          </p:cNvPr>
          <p:cNvPicPr/>
          <p:nvPr/>
        </p:nvPicPr>
        <p:blipFill>
          <a:blip r:embed="rId3"/>
          <a:srcRect l="9178" t="2671" r="14173" b="3339"/>
          <a:stretch/>
        </p:blipFill>
        <p:spPr>
          <a:xfrm>
            <a:off x="457200" y="533520"/>
            <a:ext cx="6858000" cy="618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  <a:ea typeface="华文新魏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457200"/>
            <a:ext cx="567216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当你徘徊街头举目无亲的时候，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当你被寒光闪闪的匕首逼勒的时候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当你提着大包小包而又精疲力尽的时候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当你家的下水道严重堵塞的时候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800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你难道不希望有“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雷锋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” 出现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533520" y="1447920"/>
            <a:ext cx="73152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只要人人都献出一份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世界将变成美好人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2749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c0100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我们抛开雷锋精神的形式主义外壳，就会发现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雷锋精神的实质，就是爱，爱别人、爱生活、爱工作、爱自己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　忠诚、坚强、乐观、奉献……这些与雷锋精神一脉相承的准则和标准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新时代被赋予了更丰富的涵义。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它们并不会因为时代的变迁、经济的发展而落伍过时。相反，在现实生活中，它们却因人们的漠视和淡忘，愈发显得弥足珍贵。标榜自我与个性的新新人类们，正是缺失了人与人相处的基本准则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雷锋精神的实质：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当代的雷锋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徐本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381560" y="368604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  <a:ea typeface="华文行楷"/>
              </a:rPr>
              <a:t>雷锋的事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1447920"/>
            <a:ext cx="8001000" cy="4848120"/>
            <a:chOff x="609480" y="1447920"/>
            <a:chExt cx="8001000" cy="48481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609480" y="1447920"/>
              <a:ext cx="8001000" cy="48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257800" y="5715000"/>
              <a:ext cx="32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ahoma"/>
                </a:rPr>
                <a:t>雷锋送老大娘回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838080" y="1295280"/>
            <a:ext cx="7467840" cy="5340240"/>
            <a:chOff x="838080" y="1295280"/>
            <a:chExt cx="7467840" cy="534024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838080" y="1295280"/>
              <a:ext cx="7467840" cy="53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95280" y="5257800"/>
              <a:ext cx="701064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雷锋把自己分得的一饭盒饭菜送给了战友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752480" y="1219320"/>
            <a:ext cx="6019920" cy="5333760"/>
            <a:chOff x="1752480" y="1219320"/>
            <a:chExt cx="6019920" cy="533376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1752480" y="1219320"/>
              <a:ext cx="601992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209680" y="571500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雷锋“废物利用”，为国家节省了资金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6520" y="1600200"/>
            <a:ext cx="6399000" cy="4800600"/>
            <a:chOff x="1676520" y="1600200"/>
            <a:chExt cx="6399000" cy="4800600"/>
          </a:xfrm>
        </p:grpSpPr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1676520" y="1600200"/>
              <a:ext cx="639900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00400" y="533376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雷锋在苦练臂力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当代的雷锋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丛飞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1646280"/>
            <a:ext cx="6019920" cy="5211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153280" y="1905120"/>
            <a:ext cx="51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广东人民的骄傲丛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04920" y="1676520"/>
            <a:ext cx="4572000" cy="3154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当代的雷锋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孔繁森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68760"/>
            <a:ext cx="6095880" cy="4089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29400" y="990720"/>
            <a:ext cx="22226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当代的雷锋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林秀贞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1905120"/>
            <a:ext cx="2609640" cy="3809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2209680"/>
            <a:ext cx="4647960" cy="3838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当代的雷锋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霍英东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362320"/>
            <a:ext cx="2512800" cy="325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62120" y="2057400"/>
            <a:ext cx="272088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当代的雷锋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微尘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581280" cy="32464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419720" y="1752480"/>
            <a:ext cx="4243320" cy="4243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　我们还在争论雷锋是否过时的时候，雷锋精神和他的高尚道德品格却早已超越了国界融入全世界。据说，在著名的美国西点军校，大厅里悬挂着五位师生们所敬仰的英雄肖像，雷锋的肖像被排在第一位。日本把雷锋精神归结为人类社会中生存下去所必备的生存价值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　民族的也是世界的。雷锋精神之所以走出国门，正是因为他对党、对人民无限热爱和忠诚，信守自己的诺言，是共产主义道德与传统美德的完美结合。雷锋和他所属的那个时代虽然已经离我们远去，但雷锋精神在今天仍然有着鲜活的生命力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雷锋精神漂洋过海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译文：雷锋的精神就象一滴油，它能覆盖整个大洋，使世界更加平静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　　　　　　　　　　　　　　　　　 美国 詹姆斯　　　　　　　　　　　　　　　　　　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989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日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82292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你也可以成为雷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　　俗话说，“说起来容易做起来难”，雷锋精神秉承了中华儿女的美好风尚，那么作为当代中学生的我们，应该怎样把这种美德运用到生活、学习中来呢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新时期社会主义荣辱观</a:t>
            </a:r>
            <a:br>
              <a:rPr sz="4000"/>
            </a:b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八荣八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热爱祖国为荣   以危害祖国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服务人民为荣   以背离人民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崇尚科学为荣   以愚昧无知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辛勤劳动为荣   以好逸恶劳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团结互助为荣   以损人利己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诚实守信为荣   以见利忘义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遵纪守法为荣   以违法乱纪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艰苦奋斗为荣   以骄奢淫逸为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</a:rPr>
              <a:t>四、倾吐心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结合我们今天谈的雷锋精神，谈谈你对未来、人生、社会的期待会是什么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-137160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  <a:ea typeface="宋体"/>
              </a:rPr>
              <a:t>你愿意为之努力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8600" y="457200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100"/>
                </a:solidFill>
                <a:latin typeface="Tahoma"/>
              </a:rPr>
              <a:t>？ ？ ？ 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伟大的共产主义战士——雷锋</a:t>
            </a:r>
            <a:r>
              <a:rPr b="0" lang="zh-CN" sz="4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3880" y="1647720"/>
            <a:ext cx="4862520" cy="521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114440" y="13716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100"/>
                </a:solidFill>
                <a:latin typeface="Tahoma"/>
              </a:rPr>
              <a:t>最后让我们一起聆听那首耳熟能详的歌《学习雷锋好榜样》来结束我们今天的主题班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185760"/>
            <a:ext cx="8305920" cy="62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学习雷锋好榜样，忠于革命忠于党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爱憎分明不忘本，立场坚定斗志强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立场坚定斗志强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学习雷锋好榜样，艰苦朴素永不忘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愿做革命的螺丝钉，集体主义思想放光芒集体主义思想放光芒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学习雷锋好榜样，毛主席的教导记心上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全心全意为人民，共产主义品格多高尚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共产主义品格多高尚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学习雷锋好榜样，毛泽东思想来武装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保卫祖国握紧枪，努力学习天天向上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Arial"/>
                <a:ea typeface=""/>
              </a:rPr>
              <a:t>努力学习天天向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学习雷锋好榜样</a:t>
            </a:r>
            <a:r>
              <a:rPr b="0" lang="zh-CN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.mp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7391520" y="54864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52" dur="indefinite" restart="never" nodeType="tmRoot">
          <p:childTnLst>
            <p:seq>
              <p:cTn id="55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44913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生命是有限的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为人民服务是无限的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 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（雷锋）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我与雷锋同行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我与时代同步 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雷锋精神代代相传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743280" y="2978280"/>
            <a:ext cx="5400720" cy="3879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纪念开展学习雷锋活动</a:t>
            </a: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40</a:t>
            </a:r>
            <a:r>
              <a:rPr b="1" lang="zh-CN" sz="4000" spc="-1" strike="noStrike">
                <a:solidFill>
                  <a:srgbClr val="0c0100"/>
                </a:solidFill>
                <a:latin typeface="Tahoma"/>
              </a:rPr>
              <a:t>周年”知识竞赛试题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１．雷锋于（ ）出生在湖南省望城县简家塘村的一个贫苦农民的家庭里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39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4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4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２．雷锋的原名是（ ）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天明　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大全　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正兴　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D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玉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３．“把有限的生命，投入到无限的为人民服务之中去”是（ ）的名言。 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 焦裕禄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雷锋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孔繁森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266688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57800" y="41911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632448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４．雷锋于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( )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因公殉职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6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5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6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5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6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5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５．下面选项中哪些话出自雷锋日记？（ ）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世界上最光荣的事——劳动。 世界上最体面的人——劳动者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青春啊，永远是美好的，可是真正的青春，只属于这些永远力争上游的人，永远忘我劳动的人，永远谦虚的人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在工作上，要向积极性最高的同志看齐，在生活上，要向水平最低的同志看齐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9051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30481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39625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3341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６．“向雷锋同志学习憎爱分明的阶级立场，言行一致的革命精神，公而忘私的共产主义风格，奋不顾身的无产阶级斗志。”，这句话是（ ）为学习雷锋同志的题词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毛泽东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周恩来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刘少奇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D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朱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７．雷锋精神哺育了先进典型，先进典型又为雷锋精神增添了时代光彩。（ ）等他们都是新时代的活雷锋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孔繁森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李国安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徐虎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D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王廷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274320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25780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525780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525780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８．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63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，国防部命名雷锋生前所在的班为（ ）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雷锋班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模范班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标兵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９．江泽民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9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为雷锋同志的题词是（ ）。 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学习雷锋同志 弘扬雷锋精神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学习雷锋同志 平凡而伟大的共产主义精神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１０．“谁愿当一个真正的共产主义者就应该向雷锋同志的品德和风格学习”是（ ）为雷锋同志的题词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邓小平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刘少奇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陈云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6765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3200400"/>
            <a:ext cx="457200" cy="53352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57913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c0100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１１国际志愿者日是（ ）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 1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　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 1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　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 12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月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日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参与志愿服务活动人员条件（ ）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年龄在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周岁以上 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中专（职高、高中）以上学历 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身体健康，热心公益事业，不怕困难，甘于奉献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１２．国际志愿协调委员会，简称（ ），系一非营利性的非政府国际组织，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48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由联合国教科文组织发起创立，旨在协调各成员组织的志愿服务活动。</a:t>
            </a:r>
            <a:br>
              <a:rPr sz="3200"/>
            </a:b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CIS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CIVS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　 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CCV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6172200" y="1219320"/>
            <a:ext cx="457200" cy="5331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6840" y="3245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年龄在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周岁以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20968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2743200"/>
            <a:ext cx="45720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276720"/>
            <a:ext cx="457200" cy="5331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6324480"/>
            <a:ext cx="457200" cy="53352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1: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雷锋出差一千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好事做了一火车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2: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锋非常节俭，一双袜子补了又补，穿了又穿，可他却用自己每月仅有的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元钱津贴，为全班战友购买了许多学习书籍。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96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年，辽宁遭受特大水灾。他悄悄的给受灾战友家寄去了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2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元钱。 后来，他又把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100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元钱，以一名解放军战士的名义捐给了灾区人民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3: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雷锋叔叔路过工地，就情不自禁地参加起那里的义务劳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4:</a:t>
            </a: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雷雨来临之际，他又用自己的被子去盖水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100"/>
                </a:solidFill>
                <a:latin typeface="Tahoma"/>
              </a:rPr>
              <a:t>…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  <a:ea typeface="华文新魏"/>
              </a:rPr>
              <a:t>雷锋的事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  <a:ea typeface="黑体"/>
              </a:rPr>
              <a:t>雷锋语录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　　１青春是美好的，可是真正的青春，只属于永远力争上游的人，永远忘我劳动的人，永远谦虚的人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　　２对待同志要像春天般的温暖，对待工作要像夏天般的火热，对待个人主义要像秋风扫落叶一样，对待敌人要像严冬一样残酷无情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　　３在工作上要向积极性最高的同志看齐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在生活上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要向水平最低的同志看齐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　　４人的生命是有限的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</a:rPr>
              <a:t>要把有限的生命投入到无限的为人民服务中去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  <a:ea typeface="黑体"/>
              </a:rPr>
              <a:t>雷锋语录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　　５一朵鲜花打扮不出美丽的春天，一个人先进总是单枪匹马，众人先进才能移山填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　　６一滴水只有放进大海里才能永远不干，一个人只有当他把自己和集体融合一起的时候才能有力量。力量从团结来，智慧从劳动来，行动从思想来，荣誉从集体来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　　７我们是国家的主人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,. 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应该处处为国家着想。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.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100"/>
                </a:solidFill>
                <a:latin typeface="Tahoma"/>
                <a:ea typeface="黑体"/>
              </a:rPr>
              <a:t>雷锋语录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　８世界上最光荣的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劳动。世界上最体面的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劳动者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　９我愿做高山岩石之松，不做湖岸河旁之柳。我愿在暴风雨中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艰苦的斗争中锻炼自己，不愿仍在平平静静的日子里度过自己的一生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31:16Z</dcterms:modified>
  <cp:revision>4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